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BCFA-4DF5-4FD1-B6AF-BB0183584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C2A6-0078-404C-A737-3AA814981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EEC2-80AF-45E8-B025-8E06AD39C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5D85-8815-4EE3-B593-F53BDA16B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123720" y="304920"/>
            <a:ext cx="5867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B99B-429F-40A3-A22B-E5A530EFC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D006-B121-4985-BD05-81EE6CA9F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DF43-D058-4369-A6F5-930F4E7D9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5C18-290A-495D-9E6F-89E9D9128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304920"/>
            <a:ext cx="5867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81AE-BAF4-4110-9276-FD97FDB2E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29B0-866E-45F8-8483-98F3881F6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5DDE-63EE-44EA-8862-7E6347658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B66A-4F73-4C8E-9BFA-4DE63253F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7b14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2" marL="1085760" indent="-21708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3" marL="1519920" indent="-21708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4" marL="1954440" indent="-217080">
              <a:lnSpc>
                <a:spcPct val="140000"/>
              </a:lnSpc>
              <a:spcBef>
                <a:spcPts val="601"/>
              </a:spcBef>
              <a:buClr>
                <a:srgbClr val="5858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5" marL="1954440" indent="-217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  <a:p>
            <a:pPr lvl="6" marL="1954440" indent="-217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8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2133720" cy="527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7b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6E61-1F7E-41EC-AFC9-58D073944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7b14e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27b14e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2971800" cy="73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7b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xchangenetwork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7b14e"/>
                </a:solidFill>
                <a:latin typeface="Arial"/>
              </a:rPr>
              <a:t>EPA Data Policy</a:t>
            </a: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Verdana"/>
              </a:rPr>
              <a:t>Mandate for data sharing / provision</a:t>
            </a:r>
            <a:endParaRPr b="0" lang="en-US" sz="20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Driven by multiple statute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Regulatory nature of EPA, priority on data collection required to carry out statutory requirement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Implementation of many programs is delegated to state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However, data sharing continues to be an underlying key principle in our regulatory program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Traditionally has been accomplished within programmatic stovepipe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5858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Arial"/>
              </a:rPr>
              <a:t>Challenge is continuing to progress towards breaking these stovepipes and providing more comprehensive access to multi-media, multi-program data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DF59-B6C4-44F7-91F2-73156E41A3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7b14e"/>
                </a:solidFill>
                <a:latin typeface="Arial"/>
              </a:rPr>
              <a:t>EPA Data Policy</a:t>
            </a: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Verdana"/>
              </a:rPr>
              <a:t>Limitations on data sharing</a:t>
            </a:r>
            <a:endParaRPr b="0" lang="en-US" sz="20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Some data collected by EPA regulatory programs is protected under statute (FIFRA, TSCA) as Confidential Business Information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Verdana"/>
              </a:rPr>
              <a:t>Known user communities</a:t>
            </a:r>
            <a:endParaRPr b="0" lang="en-US" sz="20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National Dialogue on Information Access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EPA as a component in an ecosystem of environmental data producers and consumers: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Other Federal agencies, tribal/state/local government partners, environmental groups, communities and concerned citizens and industry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8"/>
                </a:solidFill>
                <a:latin typeface="Verdana"/>
              </a:rPr>
              <a:t>Challenge: What is the appropriate role for EPA as broker of some of this environmental data?</a:t>
            </a:r>
            <a:endParaRPr b="0" lang="en-US" sz="16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6AF5-4466-473B-9F09-DDFDA36F25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7b14e"/>
                </a:solidFill>
                <a:latin typeface="Arial"/>
              </a:rPr>
              <a:t>EPA Data Policy</a:t>
            </a:r>
            <a:endParaRPr b="0" lang="en-US" sz="3500" spc="-1" strike="noStrike">
              <a:solidFill>
                <a:srgbClr val="27b14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8"/>
                </a:solidFill>
                <a:latin typeface="Verdana"/>
              </a:rPr>
              <a:t>Current capabilities for data and services</a:t>
            </a:r>
            <a:endParaRPr b="0" lang="en-US" sz="18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National Environmental Information Exchange Network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xchangenetwork.net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GEOSS Registries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EPA’s GeoData Gateway -&gt; Geospatial One Stop (GOS)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5858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8"/>
                </a:solidFill>
                <a:latin typeface="Verdana"/>
              </a:rPr>
              <a:t>Near term future capabilities</a:t>
            </a:r>
            <a:endParaRPr b="0" lang="en-US" sz="18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EPA Earth”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Environmental Decision Support Center (EDSC)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Collaborative workspace through which EPA staff can discover, access, use and share environmental data and tools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5858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8"/>
                </a:solidFill>
                <a:latin typeface="Verdana"/>
              </a:rPr>
              <a:t>Pilot testing to ensure that services respond to known decision making needs</a:t>
            </a:r>
            <a:endParaRPr b="0" lang="en-US" sz="1400" spc="-1" strike="noStrike">
              <a:solidFill>
                <a:srgbClr val="5858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D8B1-155A-4F54-9533-A553A35DB6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6:38:10Z</dcterms:created>
  <dc:creator>Joe Rupp</dc:creator>
  <dc:description/>
  <dc:language>en-US</dc:language>
  <cp:lastModifiedBy>Jerry Johnston</cp:lastModifiedBy>
  <dcterms:modified xsi:type="dcterms:W3CDTF">2009-01-06T16:50:06Z</dcterms:modified>
  <cp:revision>42</cp:revision>
  <dc:subject/>
  <dc:title>Coaxis International, ASP</dc:title>
</cp:coreProperties>
</file>